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A088-80DC-4646-9589-25F5E20D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7F88-2E77-41A6-8919-5B0D6E67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34E9-2E79-4492-8161-89AD15BB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AF84-569F-4452-A20B-69641B6A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E82F-D767-48B2-ADF3-5B283177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27CB-E5B9-466C-9B8D-EFB3329C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B5D4-639D-4658-BD21-FE53407A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4504-825B-45E3-B261-01DA2548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127A-D214-4530-804B-825B9725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793E-A6AB-4593-A15D-A59B45B1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3E6D-9069-4D17-BEE6-95E39904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EE50-E6FB-410A-937C-04675093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0B94-0B3C-422D-A138-957233915648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438120"/>
            <a:ext cx="9144000" cy="759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ذهبوا في الأرض كلِّها وأَعلنوا</a:t>
            </a:r>
            <a:r>
              <a:rPr b="1" lang="ar-SA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بشارةَ إلى الخلقِ أجمَعين</a:t>
            </a:r>
            <a:r>
              <a:rPr b="1" lang="ar-LB" sz="82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24000" y="-3873240"/>
            <a:ext cx="4572000" cy="147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يُضئ نورُكم للناس فيمجّدوا أباكُمُ الذي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ي السماوات</a:t>
            </a:r>
            <a:r>
              <a:rPr b="1" lang="ar-LB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438120"/>
            <a:ext cx="9144000" cy="759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ذهبوا في الأرض كلِّها وأَعلنوا</a:t>
            </a:r>
            <a:r>
              <a:rPr b="1" lang="ar-SA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بشارةَ إلى الخلقِ أجمَعين</a:t>
            </a:r>
            <a:r>
              <a:rPr b="1" lang="ar-LB" sz="82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195640" y="-1097280"/>
            <a:ext cx="4643280" cy="90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ا يكونَّنَ عليكم لأحدٍ دينٌ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لاّ حُبُّ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عضِكُم لبعض</a:t>
            </a:r>
            <a:r>
              <a:rPr b="1" lang="ar-LB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-438120"/>
            <a:ext cx="9144000" cy="759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ذهبوا في الأرض كلِّها وأَعلنوا</a:t>
            </a:r>
            <a:r>
              <a:rPr b="1" lang="ar-SA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بشارةَ إلى الخلقِ أجمَعين</a:t>
            </a:r>
            <a:r>
              <a:rPr b="1" lang="ar-LB" sz="82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20:33:17Z</dcterms:created>
  <dc:creator>Charbel Azar</dc:creator>
  <dc:description/>
  <dc:language>en-US</dc:language>
  <cp:lastModifiedBy>Charbel Azar</cp:lastModifiedBy>
  <dcterms:modified xsi:type="dcterms:W3CDTF">2006-03-07T21:56:07Z</dcterms:modified>
  <cp:revision>5</cp:revision>
  <dc:subject/>
  <dc:title>Slide 1</dc:title>
</cp:coreProperties>
</file>